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45.wmf" ContentType="image/x-wmf"/>
  <Override PartName="/ppt/media/image21.png" ContentType="image/png"/>
  <Override PartName="/ppt/media/image16.gif" ContentType="image/gif"/>
  <Override PartName="/ppt/media/image51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image14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44.wmf" ContentType="image/x-wmf"/>
  <Override PartName="/ppt/media/image38.gif" ContentType="image/gif"/>
  <Override PartName="/ppt/media/image43.wmf" ContentType="image/x-wmf"/>
  <Override PartName="/ppt/media/image53.jpeg" ContentType="image/jpeg"/>
  <Override PartName="/ppt/media/image48.jpeg" ContentType="image/jpeg"/>
  <Override PartName="/ppt/media/image46.wmf" ContentType="image/x-wmf"/>
  <Override PartName="/ppt/media/image50.jpeg" ContentType="image/jpeg"/>
  <Override PartName="/ppt/media/image12.jpeg" ContentType="image/jpeg"/>
  <Override PartName="/ppt/media/image49.jpeg" ContentType="image/jpeg"/>
  <Override PartName="/ppt/media/image54.jpeg" ContentType="image/jpeg"/>
  <Override PartName="/ppt/media/image34.jpeg" ContentType="image/jpeg"/>
  <Override PartName="/ppt/media/image5.gif" ContentType="image/gif"/>
  <Override PartName="/ppt/media/image28.png" ContentType="image/png"/>
  <Override PartName="/ppt/media/image7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  <p:custShowLst>
    <p:custShow name="Custom Show 1" id="0">
      <p:sldLst>
        <p:sld r:id="rId50"/>
        <p:sld r:id="rId51"/>
      </p:sldLst>
    </p:custShow>
    <p:custShow name="Custom Show 2" id="1">
      <p:sldLst>
        <p:sld r:id="rId53"/>
      </p:sldLst>
    </p:custShow>
    <p:custShow name="Custom Show 3" id="2">
      <p:sldLst>
        <p:sld r:id="rId5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 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The Bohr Theory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: Emission (line) spectra of som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Quantum Mechanic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 Quantum Numbers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#’s are like an Add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Quantum #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Quantum #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 Quantum #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different sha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3: Orbital energies of the hydrogen atom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ck here for non-hydroge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4: Cross-sectional representations of the probability distributions of S 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5: Cutaway diagrams showing the spherical shape of S orbital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7: The five 3d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6: The 2p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5: The electromagnetic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A30E-02A9-4B17-9361-0F1E21054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E915-99B1-4764-90C7-EEC355A64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4000-4B81-462A-A0F1-8C6DC3CD9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BECF-2DB6-46C3-A078-C5122AF05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D914-A806-4C4A-A0CC-CC97402AA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2C23-94CD-46D5-B00B-35DEB08AC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3F8D-EBDC-494E-83D2-2B03971A7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1F4AF-E6B5-4975-BE62-B774D453A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2B47B-A6BC-4882-BC97-1A8566689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9D8C-86B5-42F9-9484-8A7201355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7321-07EE-4BDB-8E3B-34B209BC6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6858-95F1-4F2A-9746-D7ED21F8E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681600"/>
            <a:ext cx="426744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1a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00240" y="6552720"/>
            <a:ext cx="39625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esentation of Lecture Outlines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fld id="{3A326F8C-2CB2-49A6-8DA3-FA48F6144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Chemistry/Chemistry%201A/MyPPT/electromagneticwave.mov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hyperlink" Target="http://famousphysicists.mye-pix.com/partner.asp?count=1&amp;title0=Planck&amp;lo_res_url0=http://www.egtnet.net/thumbc/THUMB_150W_FPHY_A_PLA1_6000X9000_R01.JPG&amp;hi_res_url0=http://www.egtnet.net/ez/p/FPHY_A_PLA1_6000X9000_R01.JPG&amp;albumid0=0&amp;width0=6000&amp;height0=9000&amp;ReturnPage=http://www.mathematicianspictures.com/famousphysicists/index.htm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3760" y="1523880"/>
            <a:ext cx="32763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2" name="Text Box 1029"/>
          <p:cNvSpPr/>
          <p:nvPr/>
        </p:nvSpPr>
        <p:spPr>
          <a:xfrm>
            <a:off x="5257800" y="2590920"/>
            <a:ext cx="3733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1 The Wave Nature of 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2 Quantum Effects and Phot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3 The Bohr Theory of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ydrogen At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b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720" y="593280"/>
            <a:ext cx="2133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: Emission (line) spectra of some elements. </a:t>
            </a:r>
            <a:endParaRPr b="1" lang="en-US" sz="28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6" name="Picture 3" descr="314903_p_07_02"/>
          <p:cNvPicPr/>
          <p:nvPr/>
        </p:nvPicPr>
        <p:blipFill>
          <a:blip r:embed="rId1"/>
          <a:stretch/>
        </p:blipFill>
        <p:spPr>
          <a:xfrm>
            <a:off x="2286000" y="0"/>
            <a:ext cx="6629400" cy="662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8840" y="10116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1117800" cy="1676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457200" y="1905120"/>
            <a:ext cx="99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=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1523880" y="2209680"/>
            <a:ext cx="609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600200" y="2057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37160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h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514600" y="1447920"/>
            <a:ext cx="6400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=Planck’s constant 6.62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J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=speed of light 3.0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=wavelength of l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9" descr=""/>
          <p:cNvPicPr/>
          <p:nvPr/>
        </p:nvPicPr>
        <p:blipFill>
          <a:blip r:embed="rId2"/>
          <a:stretch/>
        </p:blipFill>
        <p:spPr>
          <a:xfrm>
            <a:off x="0" y="2933640"/>
            <a:ext cx="4952880" cy="3716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0"/>
          <p:cNvSpPr/>
          <p:nvPr/>
        </p:nvSpPr>
        <p:spPr>
          <a:xfrm>
            <a:off x="5105520" y="4191120"/>
            <a:ext cx="3733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energy of red light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(6.626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s)(3.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/s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(7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 2.84 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ou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5638680" y="5181480"/>
            <a:ext cx="289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67400"/>
            <a:ext cx="76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Einstein’s Photoelectric Effect                       </a:t>
            </a:r>
            <a:r>
              <a:rPr b="1" lang="en-GB" sz="1800" spc="-1" strike="noStrike">
                <a:solidFill>
                  <a:srgbClr val="ffe1ab"/>
                </a:solidFill>
                <a:latin typeface="Arial"/>
              </a:rPr>
              <a:t>(1905--Nobel Prize in 1921)</a:t>
            </a:r>
            <a:endParaRPr b="1" lang="en-US" sz="18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13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76bb4"/>
                </a:solidFill>
                <a:latin typeface="Arial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2000" spc="-1" strike="noStrike">
              <a:solidFill>
                <a:srgbClr val="376bb4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76bb4"/>
                </a:solidFill>
                <a:latin typeface="Arial"/>
              </a:rPr>
              <a:t>(Animation of Photoelectron Effect)     (Adsorption and Emission Spectra)</a:t>
            </a:r>
            <a:endParaRPr b="0" lang="en-US" sz="16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1253880" cy="1752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495680" cy="3141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40384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92080" y="273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instein’s assumption that an electron is ejected when struck by a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single phot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mplies that it behaves like a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partic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892080" y="388944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the photon hits the metal, its energ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h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aken up by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photon ceases to exist as a particle; it is said to be “absorbed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“wave” and “particle” pictures of light should be regarded as complementary views of the same physical e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572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-particle duality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 E =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displays this duality;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energy of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particle”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photon, an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frequency of the associated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wav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0"/>
          <p:cNvSpPr/>
          <p:nvPr/>
        </p:nvSpPr>
        <p:spPr>
          <a:xfrm>
            <a:off x="785880" y="4260960"/>
            <a:ext cx="69926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(6.62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) x (1.255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)  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8.315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 =  8.31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33"/>
          <p:cNvSpPr/>
          <p:nvPr/>
        </p:nvSpPr>
        <p:spPr>
          <a:xfrm>
            <a:off x="1042920" y="3498840"/>
            <a:ext cx="6802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olve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E,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E = h</a:t>
            </a:r>
            <a:r>
              <a:rPr b="1" lang="en-US" sz="32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, and fou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ignificant figures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energy of a photon corresponding to radio waves of frequency 1.255 x 10 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Radio Wave Energy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769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Prior to the work of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Niels Bohr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84471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stability of the atom could not be explained using the then-current theories.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3276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13, using the work of Einstein and Planck, he applied a new theory t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simplest atom, hydroge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efore looking at Bohr’s theory, we must first examine the “line spectra” of ato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7489800" y="304920"/>
            <a:ext cx="1184400" cy="1676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flipV="1" rot="10800000">
            <a:off x="2743200" y="16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13—Nobel Prize in 192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set down postulates to account for (1) the stability of the hydrogen atom and (2) the line spectrum of the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Energy level postulat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can have only specific energy levels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ransitions between energy level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in an atom can change energy levels by undergoing a “transition” from one energy level to ano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derived the following formula for the energy levels of the electron in the hydrogen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4952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s a constant (expressed in energy units) with a value of 2.18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797040" y="3429000"/>
                <a:ext cx="7556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 2, 3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or H ato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undergoes a transition from a higher energy level to a lower one, the energy is emitted as a photon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814320" y="3797280"/>
                <a:ext cx="7526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 of emitted photon 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9" name="Group 9"/>
          <p:cNvGrpSpPr/>
          <p:nvPr/>
        </p:nvGrpSpPr>
        <p:grpSpPr>
          <a:xfrm>
            <a:off x="457200" y="4419720"/>
            <a:ext cx="7772400" cy="1904760"/>
            <a:chOff x="457200" y="4419720"/>
            <a:chExt cx="7772400" cy="1904760"/>
          </a:xfrm>
        </p:grpSpPr>
        <p:sp>
          <p:nvSpPr>
            <p:cNvPr id="210" name="Rectangle 4"/>
            <p:cNvSpPr/>
            <p:nvPr/>
          </p:nvSpPr>
          <p:spPr>
            <a:xfrm>
              <a:off x="457200" y="4419720"/>
              <a:ext cx="77724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From Postulate 1,</a:t>
              </a:r>
              <a:r>
                <a:rPr b="0" lang="en-US" sz="2800" spc="-1" strike="noStrike">
                  <a:solidFill>
                    <a:srgbClr val="376bb4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6"/>
                <p:cNvSpPr txBox="1"/>
                <p:nvPr/>
              </p:nvSpPr>
              <p:spPr>
                <a:xfrm>
                  <a:off x="1614600" y="5068800"/>
                  <a:ext cx="179856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i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7"/>
                <p:cNvSpPr txBox="1"/>
                <p:nvPr/>
              </p:nvSpPr>
              <p:spPr>
                <a:xfrm>
                  <a:off x="4780080" y="5038560"/>
                  <a:ext cx="186840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8840" y="13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av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s a continuously repeating change or oscillation in matter or in a physical field. Light is also a wave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80880" y="312408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t consists of oscillations in electric and magnetic fields that travel through space.Visible light, X rays, and radio waves are all forms of </a:t>
            </a:r>
            <a:r>
              <a:rPr b="0" lang="en-US" sz="2400" spc="-1" strike="noStrike" u="sng">
                <a:solidFill>
                  <a:srgbClr val="f3010d"/>
                </a:solidFill>
                <a:uFillTx/>
                <a:latin typeface="Arial"/>
                <a:hlinkClick r:id="rId1"/>
              </a:rPr>
              <a:t>electromagnetic radiation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724280" cy="29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828800" cy="84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we make a substitution into the previous equation that states the energy of the emitted photon,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equals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262160" y="2971800"/>
                <a:ext cx="66484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6"/>
          <p:cNvSpPr/>
          <p:nvPr/>
        </p:nvSpPr>
        <p:spPr>
          <a:xfrm>
            <a:off x="457200" y="4419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earranging, we obtain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2286000" y="4952880"/>
                <a:ext cx="4572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tomic Line Spectra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885, J. J. Balmer showed that the wavelengths,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in the visible spectrum of hydrogen could be reproduced by a simple formula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0880" y="4800600"/>
            <a:ext cx="4953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known wavelengths of the four visible lines for hydrogen correspond to values of n = 3, n = 4, n = 5, and n = 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80880" y="3733920"/>
                <a:ext cx="495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25" name="Picture 8" descr="07_11"/>
          <p:cNvPicPr/>
          <p:nvPr/>
        </p:nvPicPr>
        <p:blipFill>
          <a:blip r:embed="rId1"/>
          <a:stretch/>
        </p:blipFill>
        <p:spPr>
          <a:xfrm>
            <a:off x="5457960" y="1676520"/>
            <a:ext cx="3686040" cy="472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’s theory explains not only the emission of light, but also the absorbtion of light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57200" y="3105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falls from n = 3 to n = 2 energy level, a photon of red light (wavelength, 685 nm) is emit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8840" y="1044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A Problem to Consid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1360" y="140976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lculate the energy of a photon of light emitted from a hydrogen atom when an electron falls from level n = 3 to level n = 1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te that the sign of E is negative because energy is emitted when an electron falls from a higher to a lower level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57200" y="3276720"/>
            <a:ext cx="807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2209680" y="2438280"/>
                <a:ext cx="399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1960560" y="3733920"/>
                <a:ext cx="47512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2811600" y="4648320"/>
                <a:ext cx="3047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692360"/>
            <a:ext cx="8231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Bohr’s theory established the concept of atomic energy levels but did not thoroughly explain the “wave-like” behavior of the electr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8580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urrent ideas about atomic structure depend on the principles of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a theory that applies to subatomic particles such as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57800" y="1676160"/>
            <a:ext cx="327672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10080" y="304812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4 Quantum Mechan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5 Quantum Numbers an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omic Orbita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first clue in the development of quantum theory came with the discovery of the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3, Louis de Broglie reasoned that if light exhibits particle aspects, perhaps particles of matter show characteristics of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e postulated that a particle with mass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and a velocit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as an associated wave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= h/mv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441440" cy="20905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6172200" y="25909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23 – Nobel Prize in 192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57200" y="2895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e Broglie relation shows that a baseball (0.145 kg) moving at about 60 mph (27 m/s) has a wavelength of about 1.7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720800" y="4267080"/>
                <a:ext cx="57117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7"/>
          <p:cNvSpPr/>
          <p:nvPr/>
        </p:nvSpPr>
        <p:spPr>
          <a:xfrm>
            <a:off x="4572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value is so incredibly small that such waves cannot be detect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57200" y="28954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lectrons have wavelengths on the order of a few picometers (1 pm =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7200" y="38098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Under the proper circumstances, the wave character of electrons should be observ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1828800" y="5029200"/>
            <a:ext cx="2171880" cy="1020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"/>
          <p:cNvPicPr/>
          <p:nvPr/>
        </p:nvPicPr>
        <p:blipFill>
          <a:blip r:embed="rId2"/>
          <a:stretch/>
        </p:blipFill>
        <p:spPr>
          <a:xfrm>
            <a:off x="4876920" y="4800600"/>
            <a:ext cx="3162240" cy="132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80880" y="16002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n 1927, it was demonstrated that a </a:t>
            </a:r>
            <a:r>
              <a:rPr b="0" lang="en-US" sz="2800" spc="-1" strike="noStrike" u="sng">
                <a:solidFill>
                  <a:srgbClr val="376bb4"/>
                </a:solidFill>
                <a:uFillTx/>
                <a:latin typeface="Arial"/>
              </a:rPr>
              <a:t>beam of electron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just like X rays, could be diffracted by a crystal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80880" y="304812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 lvl="1" marL="527400" indent="-20268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German physicist, Ernst Ruska, used this wave property to construct the first “electron microscope” in 1933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1" descr="314903_p_07_16"/>
          <p:cNvPicPr/>
          <p:nvPr/>
        </p:nvPicPr>
        <p:blipFill>
          <a:blip r:embed="rId1"/>
          <a:stretch/>
        </p:blipFill>
        <p:spPr>
          <a:xfrm>
            <a:off x="4267080" y="2894040"/>
            <a:ext cx="4616640" cy="309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9" name="Picture 13" descr="21001hoa"/>
          <p:cNvPicPr/>
          <p:nvPr/>
        </p:nvPicPr>
        <p:blipFill>
          <a:blip r:embed="rId2"/>
          <a:stretch/>
        </p:blipFill>
        <p:spPr>
          <a:xfrm>
            <a:off x="380880" y="228600"/>
            <a:ext cx="1467000" cy="952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20101hoa"/>
          <p:cNvPicPr/>
          <p:nvPr/>
        </p:nvPicPr>
        <p:blipFill>
          <a:blip r:embed="rId3"/>
          <a:stretch/>
        </p:blipFill>
        <p:spPr>
          <a:xfrm>
            <a:off x="7238880" y="152280"/>
            <a:ext cx="1543320" cy="100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8840" y="107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 wave can be characterized by its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wavelength 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frequency.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25146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length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lambda),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distance between any two adjacent identical points of a wave.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frequenc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nyu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of a wave is the number of wavelengths that pass a fixed point in one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07_03"/>
          <p:cNvPicPr/>
          <p:nvPr/>
        </p:nvPicPr>
        <p:blipFill>
          <a:blip r:embed="rId1"/>
          <a:stretch/>
        </p:blipFill>
        <p:spPr>
          <a:xfrm>
            <a:off x="0" y="4124160"/>
            <a:ext cx="5334120" cy="243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80988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3" name="Picture 5" descr="The piezotube moves the specimen in a raster pattern at constant distance or force."/>
          <p:cNvPicPr/>
          <p:nvPr/>
        </p:nvPicPr>
        <p:blipFill>
          <a:blip r:embed="rId1"/>
          <a:stretch/>
        </p:blipFill>
        <p:spPr>
          <a:xfrm>
            <a:off x="0" y="1917720"/>
            <a:ext cx="4807080" cy="3805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scope2"/>
          <p:cNvPicPr/>
          <p:nvPr/>
        </p:nvPicPr>
        <p:blipFill>
          <a:blip r:embed="rId2"/>
          <a:stretch/>
        </p:blipFill>
        <p:spPr>
          <a:xfrm>
            <a:off x="4808520" y="1922400"/>
            <a:ext cx="4141800" cy="371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7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the branch of physics that mathematically describes the wave properties of submicroscopic particl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93800" y="3232080"/>
            <a:ext cx="7543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can no longer think of an electron as having a precise orbit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o describe such an orbit would require knowing its exact position and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7, Werner Heisenberg showed (from quantum mechanics) that it is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impossibl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to know both simultaneous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eisenberg’s uncertainty principle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a relation that states that the product of the uncertainty in position (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x) and the uncertainty in momentum (m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) of a particle can be no larger tha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/4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20720" y="5140440"/>
            <a:ext cx="76960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large (for example, a baseball) the uncertainties are small, but for electrons, high uncertainties disallow defining an exact orb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5"/>
              <p:cNvSpPr txBox="1"/>
              <p:nvPr/>
            </p:nvSpPr>
            <p:spPr>
              <a:xfrm>
                <a:off x="2984400" y="3994200"/>
                <a:ext cx="31878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Δ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7691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lthough we cannot precisely define an electron’s orbit, we can obtain the 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probability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f finding an electron at a given point around the nucleu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320040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rwin Schrodinger defined this probability in a mathematical expression called a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wave functi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denote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(psi). The probability of finding a particle in a region of space is defined b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30000">
                <a:solidFill>
                  <a:srgbClr val="376bb4"/>
                </a:solidFill>
                <a:latin typeface="Symbol"/>
                <a:ea typeface="Symbol"/>
              </a:rPr>
              <a:t>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07_19"/>
          <p:cNvPicPr/>
          <p:nvPr/>
        </p:nvPicPr>
        <p:blipFill>
          <a:blip r:embed="rId2"/>
          <a:stretch/>
        </p:blipFill>
        <p:spPr>
          <a:xfrm>
            <a:off x="3962520" y="3276720"/>
            <a:ext cx="4952880" cy="303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ccording to quantum mechanics, each electron is described by four quantum number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57200" y="4876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first three define the wave function for a particular electron. The fourth quantum number refers to the magnetic property of electron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457200" y="30481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3000"/>
          </a:bodyPr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Principal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ngular momentum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#’s are like an Address. 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47" name="Picture 5" descr="j0185604"/>
          <p:cNvPicPr/>
          <p:nvPr/>
        </p:nvPicPr>
        <p:blipFill>
          <a:blip r:embed="rId1"/>
          <a:stretch/>
        </p:blipFill>
        <p:spPr>
          <a:xfrm>
            <a:off x="7620120" y="2438280"/>
            <a:ext cx="11412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j0335112"/>
          <p:cNvPicPr/>
          <p:nvPr/>
        </p:nvPicPr>
        <p:blipFill>
          <a:blip r:embed="rId2"/>
          <a:stretch/>
        </p:blipFill>
        <p:spPr>
          <a:xfrm>
            <a:off x="457200" y="2362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j0158007"/>
          <p:cNvPicPr/>
          <p:nvPr/>
        </p:nvPicPr>
        <p:blipFill>
          <a:blip r:embed="rId3"/>
          <a:stretch/>
        </p:blipFill>
        <p:spPr>
          <a:xfrm>
            <a:off x="457200" y="5562720"/>
            <a:ext cx="8305920" cy="538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j0212957"/>
          <p:cNvPicPr/>
          <p:nvPr/>
        </p:nvPicPr>
        <p:blipFill>
          <a:blip r:embed="rId4"/>
          <a:stretch/>
        </p:blipFill>
        <p:spPr>
          <a:xfrm>
            <a:off x="4952880" y="2362320"/>
            <a:ext cx="1830600" cy="1149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j0205462"/>
          <p:cNvPicPr/>
          <p:nvPr/>
        </p:nvPicPr>
        <p:blipFill>
          <a:blip r:embed="rId5"/>
          <a:stretch/>
        </p:blipFill>
        <p:spPr>
          <a:xfrm>
            <a:off x="2286000" y="213372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1"/>
          <p:cNvSpPr/>
          <p:nvPr/>
        </p:nvSpPr>
        <p:spPr>
          <a:xfrm>
            <a:off x="53352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80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25146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1814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438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2362320" y="4419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ular Quantum # (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029200" y="44197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ic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7162920" y="4419720"/>
            <a:ext cx="198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n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09480" y="163800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rincipal quantum number(n)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represents the “shell number” in which an electron “resides.”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44400" y="3470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smaller the orbit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lower the energy of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33"/>
          <p:cNvSpPr/>
          <p:nvPr/>
        </p:nvSpPr>
        <p:spPr>
          <a:xfrm>
            <a:off x="457200" y="4267080"/>
            <a:ext cx="4648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o, given the frequency of light, its wavelength can be calculated, or vice vers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64448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product of the frequency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waves/sec) and the wavelength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m/wave) would give the speed of the wave in m/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29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0" name="Group 1035"/>
          <p:cNvGrpSpPr/>
          <p:nvPr/>
        </p:nvGrpSpPr>
        <p:grpSpPr>
          <a:xfrm>
            <a:off x="228600" y="2514600"/>
            <a:ext cx="8381880" cy="1905120"/>
            <a:chOff x="228600" y="2514600"/>
            <a:chExt cx="8381880" cy="1905120"/>
          </a:xfrm>
        </p:grpSpPr>
        <p:sp>
          <p:nvSpPr>
            <p:cNvPr id="101" name="Rectangle 1030"/>
            <p:cNvSpPr/>
            <p:nvPr/>
          </p:nvSpPr>
          <p:spPr>
            <a:xfrm>
              <a:off x="228600" y="2514600"/>
              <a:ext cx="8381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In a vacuum, the speed of light, c, is 3.00 x 10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m/s. Therefore,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1031"/>
                <p:cNvSpPr txBox="1"/>
                <p:nvPr/>
              </p:nvSpPr>
              <p:spPr>
                <a:xfrm>
                  <a:off x="3340080" y="3886200"/>
                  <a:ext cx="1447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νλ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3" name="Picture 1037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38102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09480" y="167004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ngular momentum quantum number (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distinguishes “sub shells” within a given shell that have different shap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06600" y="32004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ach main “shell” is subdivided into “sub shells.” Within each shell of quantum number n, there are n sub shells, each with a distinctive shap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can have any integer value from 0 to (n - 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ifferent subshells are denoted by lett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Letter             s     p     d     f     g 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    0     1     2     3    4  …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distinguishes orbitals within a given sub-shell that have different shapes and orientations in space. Each sub shell is subdivided into “orbitals,” each capable of holding a pair of electrons.  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n have any integer value from -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to +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 Each orbital within a given sub shell has the same energy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4191120"/>
            <a:ext cx="8839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refers to the two possible spin orientations of the electrons residing within a given orbital. Each orbital can hold only two electrons whose spins must oppose one another.  The possible values of m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re +1/2 and –1/2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Why the different shapes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3962520" y="3505320"/>
            <a:ext cx="76176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3505320" y="3048120"/>
            <a:ext cx="1676160" cy="1676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5"/>
          <p:cNvSpPr/>
          <p:nvPr/>
        </p:nvSpPr>
        <p:spPr>
          <a:xfrm rot="5337000">
            <a:off x="3921480" y="4075560"/>
            <a:ext cx="839880" cy="46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6"/>
          <p:cNvSpPr/>
          <p:nvPr/>
        </p:nvSpPr>
        <p:spPr>
          <a:xfrm rot="16188600">
            <a:off x="3847680" y="31618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7"/>
          <p:cNvSpPr/>
          <p:nvPr/>
        </p:nvSpPr>
        <p:spPr>
          <a:xfrm rot="21514200">
            <a:off x="34290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8"/>
          <p:cNvSpPr/>
          <p:nvPr/>
        </p:nvSpPr>
        <p:spPr>
          <a:xfrm rot="21514200">
            <a:off x="43434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9"/>
          <p:cNvSpPr/>
          <p:nvPr/>
        </p:nvSpPr>
        <p:spPr>
          <a:xfrm rot="16188600">
            <a:off x="4074840" y="3694320"/>
            <a:ext cx="4572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10"/>
          <p:cNvSpPr/>
          <p:nvPr/>
        </p:nvSpPr>
        <p:spPr>
          <a:xfrm rot="16188600">
            <a:off x="4228920" y="3542760"/>
            <a:ext cx="2286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1"/>
          <p:cNvSpPr/>
          <p:nvPr/>
        </p:nvSpPr>
        <p:spPr>
          <a:xfrm>
            <a:off x="2971800" y="2438280"/>
            <a:ext cx="2819520" cy="289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2"/>
          <p:cNvSpPr/>
          <p:nvPr/>
        </p:nvSpPr>
        <p:spPr>
          <a:xfrm>
            <a:off x="4038480" y="3581280"/>
            <a:ext cx="60984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3962520" y="236232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4"/>
          <p:cNvSpPr/>
          <p:nvPr/>
        </p:nvSpPr>
        <p:spPr>
          <a:xfrm rot="5478000">
            <a:off x="3276360" y="3124080"/>
            <a:ext cx="76176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5"/>
          <p:cNvSpPr/>
          <p:nvPr/>
        </p:nvSpPr>
        <p:spPr>
          <a:xfrm>
            <a:off x="3733920" y="3886200"/>
            <a:ext cx="12189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6"/>
          <p:cNvSpPr/>
          <p:nvPr/>
        </p:nvSpPr>
        <p:spPr>
          <a:xfrm>
            <a:off x="3962520" y="388620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7"/>
          <p:cNvSpPr/>
          <p:nvPr/>
        </p:nvSpPr>
        <p:spPr>
          <a:xfrm rot="5393400">
            <a:off x="4800240" y="312408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8"/>
          <p:cNvSpPr/>
          <p:nvPr/>
        </p:nvSpPr>
        <p:spPr>
          <a:xfrm rot="2746800">
            <a:off x="4152960" y="4152960"/>
            <a:ext cx="1752480" cy="76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9"/>
          <p:cNvSpPr/>
          <p:nvPr/>
        </p:nvSpPr>
        <p:spPr>
          <a:xfrm rot="19262400">
            <a:off x="2895480" y="4114440"/>
            <a:ext cx="175284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0"/>
          <p:cNvSpPr/>
          <p:nvPr/>
        </p:nvSpPr>
        <p:spPr>
          <a:xfrm rot="2746800">
            <a:off x="2856960" y="2857680"/>
            <a:ext cx="175248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21"/>
          <p:cNvSpPr/>
          <p:nvPr/>
        </p:nvSpPr>
        <p:spPr>
          <a:xfrm rot="19065600">
            <a:off x="4276800" y="2921040"/>
            <a:ext cx="167616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48006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586728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2578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52578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3962520" y="46483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5715000" y="2438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3962520" y="25909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4038480" y="4724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3962520" y="19810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1"/>
          <p:cNvSpPr/>
          <p:nvPr/>
        </p:nvSpPr>
        <p:spPr>
          <a:xfrm>
            <a:off x="59436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731520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731520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731520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7315200" y="4495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7010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3808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38088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0"/>
          <p:cNvSpPr/>
          <p:nvPr/>
        </p:nvSpPr>
        <p:spPr>
          <a:xfrm>
            <a:off x="38088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15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2" descr="tab07_01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46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760" y="914040"/>
            <a:ext cx="1952640" cy="43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3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al energies of the hydrogen atom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(Click here for non-hydrogen atoms)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3" name="Picture 3" descr="07_23"/>
          <p:cNvPicPr/>
          <p:nvPr/>
        </p:nvPicPr>
        <p:blipFill>
          <a:blip r:embed="rId1"/>
          <a:stretch/>
        </p:blipFill>
        <p:spPr>
          <a:xfrm>
            <a:off x="2209680" y="546120"/>
            <a:ext cx="6782040" cy="565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4: Cross-sectional representations of the probability distributions of </a:t>
            </a:r>
            <a:r>
              <a:rPr b="1" i="1" lang="en-US" sz="28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  orbitals.</a:t>
            </a:r>
            <a:r>
              <a:rPr b="1" lang="en-US" sz="14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6" name="Picture 3" descr="07_24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01760" y="117000"/>
            <a:ext cx="653112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5: Cutaway diagrams showing the spherical shape of 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9" name="Picture 3" descr="07_25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529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7: The five 3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2" name="Picture 3" descr="07_27"/>
          <p:cNvPicPr/>
          <p:nvPr/>
        </p:nvPicPr>
        <p:blipFill>
          <a:blip r:embed="rId2"/>
          <a:stretch/>
        </p:blipFill>
        <p:spPr>
          <a:xfrm>
            <a:off x="533520" y="838080"/>
            <a:ext cx="8076960" cy="543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2720" y="6300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6: The 2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5" name="Picture 3" descr="07_26"/>
          <p:cNvPicPr/>
          <p:nvPr/>
        </p:nvPicPr>
        <p:blipFill>
          <a:blip r:embed="rId2"/>
          <a:stretch/>
        </p:blipFill>
        <p:spPr>
          <a:xfrm>
            <a:off x="1066680" y="685800"/>
            <a:ext cx="7010640" cy="559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6"/>
          <p:cNvSpPr/>
          <p:nvPr/>
        </p:nvSpPr>
        <p:spPr>
          <a:xfrm>
            <a:off x="228600" y="4572000"/>
            <a:ext cx="5257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91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What is the wavelength of yellow light with a frequency of 5.09 x 10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(Note: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commonly referred to a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ertz (Hz) is defined as “cycles or waves per second”.)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35"/>
              <p:cNvSpPr txBox="1"/>
              <p:nvPr/>
            </p:nvSpPr>
            <p:spPr>
              <a:xfrm>
                <a:off x="838080" y="5638680"/>
                <a:ext cx="743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 or 589 n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1036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657600" cy="31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Line 1037"/>
          <p:cNvSpPr/>
          <p:nvPr/>
        </p:nvSpPr>
        <p:spPr>
          <a:xfrm flipH="1">
            <a:off x="2611440" y="50706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960" y="88920"/>
            <a:ext cx="8800920" cy="105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Figure 7.5: The electromagnetic spectrum.</a:t>
            </a:r>
            <a:r>
              <a:rPr b="1" lang="en-US" sz="12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13" name="Picture 3" descr="07_05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Picture 5" descr="OS06097"/>
          <p:cNvPicPr/>
          <p:nvPr/>
        </p:nvPicPr>
        <p:blipFill>
          <a:blip r:embed="rId2"/>
          <a:stretch/>
        </p:blipFill>
        <p:spPr>
          <a:xfrm>
            <a:off x="8058240" y="5106960"/>
            <a:ext cx="1085760" cy="149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filling"/>
          <p:cNvPicPr/>
          <p:nvPr/>
        </p:nvPicPr>
        <p:blipFill>
          <a:blip r:embed="rId3"/>
          <a:stretch/>
        </p:blipFill>
        <p:spPr>
          <a:xfrm>
            <a:off x="1162080" y="5219640"/>
            <a:ext cx="173052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admagen"/>
          <p:cNvPicPr/>
          <p:nvPr/>
        </p:nvPicPr>
        <p:blipFill>
          <a:blip r:embed="rId4"/>
          <a:stretch/>
        </p:blipFill>
        <p:spPr>
          <a:xfrm>
            <a:off x="0" y="5302080"/>
            <a:ext cx="1133640" cy="104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flir3"/>
          <p:cNvPicPr/>
          <p:nvPr/>
        </p:nvPicPr>
        <p:blipFill>
          <a:blip r:embed="rId5"/>
          <a:stretch/>
        </p:blipFill>
        <p:spPr>
          <a:xfrm>
            <a:off x="4168800" y="5170320"/>
            <a:ext cx="2687760" cy="142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andPowder_1_1"/>
          <p:cNvPicPr/>
          <p:nvPr/>
        </p:nvPicPr>
        <p:blipFill>
          <a:blip r:embed="rId6"/>
          <a:stretch/>
        </p:blipFill>
        <p:spPr>
          <a:xfrm>
            <a:off x="2894040" y="5127480"/>
            <a:ext cx="1316160" cy="148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icrowve"/>
          <p:cNvPicPr/>
          <p:nvPr/>
        </p:nvPicPr>
        <p:blipFill>
          <a:blip r:embed="rId7"/>
          <a:stretch/>
        </p:blipFill>
        <p:spPr>
          <a:xfrm>
            <a:off x="6310440" y="5208480"/>
            <a:ext cx="1746000" cy="12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26"/>
          <p:cNvSpPr/>
          <p:nvPr/>
        </p:nvSpPr>
        <p:spPr>
          <a:xfrm>
            <a:off x="534960" y="33084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frequency of violet light with a wavelength of 408 nm? 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30"/>
              <p:cNvSpPr txBox="1"/>
              <p:nvPr/>
            </p:nvSpPr>
            <p:spPr>
              <a:xfrm>
                <a:off x="4510080" y="3530520"/>
                <a:ext cx="279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31"/>
              <p:cNvSpPr txBox="1"/>
              <p:nvPr/>
            </p:nvSpPr>
            <p:spPr>
              <a:xfrm>
                <a:off x="2030400" y="4299120"/>
                <a:ext cx="5176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6" name="Line 1034"/>
          <p:cNvSpPr/>
          <p:nvPr/>
        </p:nvSpPr>
        <p:spPr>
          <a:xfrm flipH="1">
            <a:off x="7010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e1ab"/>
                </a:solidFill>
                <a:latin typeface="Arial"/>
              </a:rPr>
              <a:t>Seeing the Light-A New Model of the Atom</a:t>
            </a:r>
            <a:endParaRPr b="1" lang="en-US" sz="32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76bb4"/>
                </a:solidFill>
                <a:latin typeface="Arial"/>
              </a:rPr>
              <a:t>Maxwell Planck-Black Body Radiation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3457800" cy="399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6400800" y="33526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5181480" y="513396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 that blackbody radiation was quantiz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1143000"/>
            <a:ext cx="1257480" cy="1886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600200" y="207000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00—Nobel Prize in 191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What is Quantized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76bb4"/>
                </a:solidFill>
                <a:latin typeface="Arial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133720" y="54864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05320" y="41148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819520" y="48006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191120" y="34290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133720" y="54864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819520" y="48006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505320" y="41148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34290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4495680" y="3654360"/>
            <a:ext cx="327672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676520" y="5867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343400" y="6019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1447920" y="61722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2362320" y="5181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3048120" y="4495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3733920" y="3809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4419720" y="3124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2428E-007 L 0.35417 -0.38844 E">
                                      <p:cBhvr>
                                        <p:cTn id="7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K. Cook</dc:creator>
  <dc:description/>
  <dc:language>en-US</dc:language>
  <cp:lastModifiedBy>LEGION</cp:lastModifiedBy>
  <cp:lastPrinted>2009-04-22T19:24:48Z</cp:lastPrinted>
  <dcterms:modified xsi:type="dcterms:W3CDTF">2017-01-26T09:33:37Z</dcterms:modified>
  <cp:revision>171</cp:revision>
  <dc:subject>Chapter 7</dc:subject>
  <dc:title>Quantum Theory of the Atom</dc:title>
</cp:coreProperties>
</file>